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4.png" ContentType="image/png"/>
  <Override PartName="/ppt/media/image9.png" ContentType="image/png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2725-7CA1-4214-B99D-6F8E5CCFD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678168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19320" y="4487400"/>
            <a:ext cx="678168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4B37-91A1-42F6-9AF4-6A2995B3A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4400" y="289512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9320" y="448740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4400" y="448740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3292-1DE0-4FA8-A22A-C510F26CE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2183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2160" y="2895120"/>
            <a:ext cx="2183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05360" y="2895120"/>
            <a:ext cx="2183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19320" y="4487400"/>
            <a:ext cx="2183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2160" y="4487400"/>
            <a:ext cx="2183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05360" y="4487400"/>
            <a:ext cx="2183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40CA-E1F0-41B8-A776-B2D906324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10298-12F9-496D-8BDF-D608C334A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9320" y="2895120"/>
            <a:ext cx="678168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4EA45-E662-4F7F-975A-3BF6784D7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67816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F72BE-A02D-4A2F-9C4F-6E9229F52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33091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94400" y="2895120"/>
            <a:ext cx="33091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A4595-42DE-45F7-AC88-639912DD3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BDF4C-88D3-41EC-AA28-F54E10D65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19320" y="1143000"/>
            <a:ext cx="678168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52F55-84FC-472A-93B5-17EA53702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94400" y="2895120"/>
            <a:ext cx="33091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9320" y="448740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3599E-02C7-49FC-928C-3B9DD7C0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19320" y="2895120"/>
            <a:ext cx="678168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10D5-A63C-4853-A466-379F72DE2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33091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94400" y="289512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94400" y="448740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9B1C3-8204-439F-8FDA-6E57CD0A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4400" y="289512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4487400"/>
            <a:ext cx="678168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5D0CF-6944-4E1E-A467-E165432E4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678168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9320" y="4487400"/>
            <a:ext cx="678168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983BD-913B-4671-BD1D-4474F7063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94400" y="289512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448740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94400" y="448740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91AE2-CD62-4A3C-A9A2-AA683C890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2183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12160" y="2895120"/>
            <a:ext cx="2183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05360" y="2895120"/>
            <a:ext cx="2183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9320" y="4487400"/>
            <a:ext cx="2183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12160" y="4487400"/>
            <a:ext cx="2183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05360" y="4487400"/>
            <a:ext cx="2183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44E91-8C5D-4DA6-B974-76CDA8BD3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D958C-B072-42F9-98A5-10901EBBF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219320" y="2895120"/>
            <a:ext cx="678168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5542F-8786-46FA-BAE6-3261DDFED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67816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4152C-41CD-42B8-B9B7-AD1A8B337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33091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94400" y="2895120"/>
            <a:ext cx="33091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927E3-8411-48DE-BBB1-7C68D322F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F3C63-0CBC-4987-A649-F0DCF2EB9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67816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F791-4E82-4564-A5AB-BE596C823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219320" y="1143000"/>
            <a:ext cx="678168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046BA-0AAF-4C7D-BFA3-58A671219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94400" y="2895120"/>
            <a:ext cx="33091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219320" y="448740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7AC6E-5208-4E67-98B1-9F7B37AD2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33091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94400" y="289512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94400" y="448740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4D0B9-359E-4BF6-9062-F326D255F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94400" y="289512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19320" y="4487400"/>
            <a:ext cx="678168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FD131-677F-4464-8291-26A6B895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678168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219320" y="4487400"/>
            <a:ext cx="678168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DF387-F8DD-460D-A0CF-1D79A035E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94400" y="289512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219320" y="448740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94400" y="448740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4BEEB-001D-4164-97A2-761CF0AA2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2183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12160" y="2895120"/>
            <a:ext cx="2183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805360" y="2895120"/>
            <a:ext cx="2183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219320" y="4487400"/>
            <a:ext cx="2183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12160" y="4487400"/>
            <a:ext cx="2183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805360" y="4487400"/>
            <a:ext cx="2183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5D8E3-872A-4EF0-B83C-99762FD91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33091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4400" y="2895120"/>
            <a:ext cx="33091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26DA-B2D6-491C-8993-BB4A531DB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A78C-01EB-4889-BDD3-2AD4008D5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9320" y="1143000"/>
            <a:ext cx="678168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8D76-FE90-4CC2-9A7A-FBC77CD53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4400" y="2895120"/>
            <a:ext cx="33091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19320" y="448740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0B32-96AB-441A-8CEB-3F377711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33091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4400" y="289512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4400" y="448740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6F73-571B-4C8D-97BA-A67AF6876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4400" y="289512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19320" y="4487400"/>
            <a:ext cx="678168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B948-4A70-4BF2-A3FB-1C2CDBD1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895120"/>
            <a:ext cx="67816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167840" indent="-1666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501560" indent="-1666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501560" indent="-1666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501560" indent="-1666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4776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0520" y="617220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01977-A4DB-4A51-B9B8-9AA427DF7F9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19320" y="2895120"/>
            <a:ext cx="67816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167840" indent="-1666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501560" indent="-1666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501560" indent="-1666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501560" indent="-1666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7010280" y="617220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533520" y="6172200"/>
            <a:ext cx="1218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CB226-1F37-4353-9092-572303B83E6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19320" y="2895120"/>
            <a:ext cx="67816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167840" indent="-1666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501560" indent="-1666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501560" indent="-1666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501560" indent="-1666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292B2-14B4-425B-A6EE-2DAE401FCB6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h2GIHPd41eY" TargetMode="External"/><Relationship Id="rId2" Type="http://schemas.openxmlformats.org/officeDocument/2006/relationships/hyperlink" Target="http://www.history.com/topics/exploration/exploration-of-north-america/videos/did-the-chinese-discover-america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67820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ff"/>
                </a:solidFill>
                <a:latin typeface="Arial Black"/>
              </a:rPr>
              <a:t>Guangzhou Warmups</a:t>
            </a: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28600" y="1527120"/>
            <a:ext cx="876312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y do people travel? (both past and presen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nformation might be contained in a traveler's accoun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might be important to know about the writer? Why? (race, gender, class, religion, etc…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ff"/>
                </a:solidFill>
                <a:latin typeface="Arial Black"/>
              </a:rPr>
              <a:t>Improved Technology</a:t>
            </a: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ED for long voy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tter Shi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angle-shaped sails (against or with the wind), ---Islamic Empi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ple masts: Move fa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avels: All improvem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nd in these new shi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5" descr="caravel"/>
          <p:cNvPicPr/>
          <p:nvPr/>
        </p:nvPicPr>
        <p:blipFill>
          <a:blip r:embed="rId1"/>
          <a:stretch/>
        </p:blipFill>
        <p:spPr>
          <a:xfrm>
            <a:off x="6276960" y="3200400"/>
            <a:ext cx="2867040" cy="36576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galleon"/>
          <p:cNvPicPr/>
          <p:nvPr/>
        </p:nvPicPr>
        <p:blipFill>
          <a:blip r:embed="rId2"/>
          <a:stretch/>
        </p:blipFill>
        <p:spPr>
          <a:xfrm>
            <a:off x="0" y="4648320"/>
            <a:ext cx="18176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ff"/>
                </a:solidFill>
                <a:latin typeface="Arial Black"/>
              </a:rPr>
              <a:t>Other innovations</a:t>
            </a: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trolabe – Helped determine lo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gnetic compass: Chinese directional tool (brought by the Silk Roa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5" descr="astrolabe%25203"/>
          <p:cNvPicPr/>
          <p:nvPr/>
        </p:nvPicPr>
        <p:blipFill>
          <a:blip r:embed="rId1"/>
          <a:stretch/>
        </p:blipFill>
        <p:spPr>
          <a:xfrm>
            <a:off x="6407280" y="2971800"/>
            <a:ext cx="2736720" cy="38862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MMj03005550000[1]"/>
          <p:cNvPicPr/>
          <p:nvPr/>
        </p:nvPicPr>
        <p:blipFill>
          <a:blip r:embed="rId2"/>
          <a:stretch/>
        </p:blipFill>
        <p:spPr>
          <a:xfrm>
            <a:off x="2133720" y="3630600"/>
            <a:ext cx="3504960" cy="32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ff"/>
                </a:solidFill>
                <a:latin typeface="Arial Black"/>
              </a:rPr>
              <a:t>Explorer Challenge</a:t>
            </a: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219320" y="2895120"/>
            <a:ext cx="67816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pages 553-559 to find the correct explorer and the date that corresponds with the accomplishment giv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457200" y="0"/>
          <a:ext cx="8229600" cy="7147080"/>
        </p:xfrm>
        <a:graphic>
          <a:graphicData uri="http://schemas.openxmlformats.org/drawingml/2006/table">
            <a:tbl>
              <a:tblPr/>
              <a:tblGrid>
                <a:gridCol w="2778120"/>
                <a:gridCol w="5451480"/>
              </a:tblGrid>
              <a:tr h="673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rebuchet MS"/>
                          <a:ea typeface="Arial"/>
                        </a:rPr>
                        <a:t>      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rebuchet MS"/>
                          <a:ea typeface="Arial"/>
                        </a:rPr>
                        <a:t>EXPLORER &amp; YEA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rebuchet MS"/>
                          <a:ea typeface="Times New Roman"/>
                        </a:rPr>
                        <a:t>ACCOMPLISHMENT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rebuchet MS"/>
                          <a:ea typeface="Times New Roman"/>
                        </a:rPr>
                        <a:t>COLUMBUS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rebuchet MS"/>
                          <a:ea typeface="Times New Roman"/>
                        </a:rPr>
                        <a:t>(1492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rebuchet MS"/>
                          <a:ea typeface="Times New Roman"/>
                        </a:rPr>
                        <a:t>Discovered the New World; Believed he reached the East Ind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ABRAL (1500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rebuchet MS"/>
                          <a:ea typeface="Times New Roman"/>
                        </a:rPr>
                        <a:t>Reached Brazil and claimed it for Portug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ESPUCCI (1501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rebuchet MS"/>
                          <a:ea typeface="Times New Roman"/>
                        </a:rPr>
                        <a:t>Traveled the coast of South America; Claimed the land was not Asia but a “New” Worl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GELLAN (1522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rebuchet MS"/>
                          <a:ea typeface="Times New Roman"/>
                        </a:rPr>
                        <a:t>Credited with sailing around the worl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RTES (1521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rebuchet MS"/>
                          <a:ea typeface="Times New Roman"/>
                        </a:rPr>
                        <a:t>Conquered the Aztec Empire in Mexic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IZARRO (1533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rebuchet MS"/>
                          <a:ea typeface="Times New Roman"/>
                        </a:rPr>
                        <a:t>Conquered the Inca Empire in Per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ONCE DE LEON (1513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rebuchet MS"/>
                          <a:ea typeface="Times New Roman"/>
                        </a:rPr>
                        <a:t>Landed on the coast of Florida and claimed it for Spa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RONAD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1540-1541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rebuchet MS"/>
                          <a:ea typeface="Times New Roman"/>
                        </a:rPr>
                        <a:t>Searched Arizona, New Mexico, Texas, Oklahoma, &amp; Kansas searching for gol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ff"/>
                </a:solidFill>
                <a:latin typeface="Arial Black"/>
              </a:rPr>
              <a:t>China Limits European Contact</a:t>
            </a:r>
            <a:endParaRPr b="0" lang="en-US" sz="36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ring Age of Exploration, China ruled by Ming &amp; Qing Dynas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NG DYNAS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blished by Hong Wu: Brought peace &amp; st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nglo (Hong’s son) next empero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Capital moved to Beij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Launched voyages of expl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86868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 voyages of expl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All led by Admiral Zheng H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Sent to foreign ports: Shared gifts to show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erio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1433: Withdrew into iso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de policies: Reflected iso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Conducted by government in 3 citi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line: Manchu invaders conque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5" descr="voyages-of-zheng-he-map-06-04"/>
          <p:cNvPicPr/>
          <p:nvPr/>
        </p:nvPicPr>
        <p:blipFill>
          <a:blip r:embed="rId1"/>
          <a:stretch/>
        </p:blipFill>
        <p:spPr>
          <a:xfrm>
            <a:off x="1752480" y="4343400"/>
            <a:ext cx="54864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ff"/>
                </a:solidFill>
                <a:latin typeface="Arial Black"/>
              </a:rPr>
              <a:t>QING (CHING) DYNASTY</a:t>
            </a: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blished by Manch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Tried to blend w/Chinese customs   WHY? To earn respect of Chinese (outnumbered 30 to 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anded China’s borders: Included Taiwan, Mongolia, &amp; Tib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chus continued Chinese iso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To Chinese: Country was cultural center of the univer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Foreign countries must follow Chinese rules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tr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line: Corruption &amp; rebell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1447920" y="3809880"/>
            <a:ext cx="62481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3" descr="world-map"/>
          <p:cNvPicPr/>
          <p:nvPr/>
        </p:nvPicPr>
        <p:blipFill>
          <a:blip r:embed="rId1"/>
          <a:stretch/>
        </p:blipFill>
        <p:spPr>
          <a:xfrm>
            <a:off x="0" y="0"/>
            <a:ext cx="9144000" cy="739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0200" y="-6480"/>
            <a:ext cx="6781680" cy="137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ff"/>
                </a:solidFill>
                <a:latin typeface="Arial Black"/>
              </a:rPr>
              <a:t>Written Response </a:t>
            </a: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371600"/>
            <a:ext cx="4533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opic #1 and evid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nalysis/so wha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Arial"/>
              </a:rPr>
              <a:t>Topic #2 and evid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Arial"/>
              </a:rPr>
              <a:t>Analysis/so wha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ff"/>
                </a:solidFill>
                <a:latin typeface="Arial"/>
              </a:rPr>
              <a:t>Topic #3 and evid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ff"/>
                </a:solidFill>
                <a:latin typeface="Arial"/>
              </a:rPr>
              <a:t>Analysis/so wha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 or final anw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686120" y="1371600"/>
            <a:ext cx="4305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ro (Context, thesis + topic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Arial"/>
              </a:rPr>
              <a:t>Topic Sentence that matches idea to the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d5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5edff"/>
                </a:solidFill>
                <a:latin typeface="Arial"/>
              </a:rPr>
              <a:t>Subtopic 1, docs/evidence &amp; an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oV or reli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Transition/Con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7820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ff"/>
                </a:solidFill>
                <a:latin typeface="Arial Black"/>
              </a:rPr>
              <a:t>Getting Started</a:t>
            </a: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atness doesn’t just happen, it requires motiv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re some of the greatest motivators in the worl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motivates you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sometimes happens when many people all try to be great at the same th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600" y="1371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 Black"/>
              </a:rPr>
              <a:t>Exploration</a:t>
            </a:r>
            <a:endParaRPr b="0" lang="en-US" sz="44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447920" y="3809880"/>
            <a:ext cx="62481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he Nations Facing Expl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ff"/>
                </a:solidFill>
                <a:latin typeface="Arial Black"/>
              </a:rPr>
              <a:t>Status of Affairs</a:t>
            </a: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pices &amp; luxury goods in great demand from Asia &amp; East Ind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aly was wealthy and the fancy of Europe (results in competition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ther rivals look for quicker routes, ways to compete (wars, privateers, colonie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6" descr="MMj03033130000[1]"/>
          <p:cNvPicPr/>
          <p:nvPr/>
        </p:nvPicPr>
        <p:blipFill>
          <a:blip r:embed="rId1"/>
          <a:stretch/>
        </p:blipFill>
        <p:spPr>
          <a:xfrm>
            <a:off x="6629400" y="4992840"/>
            <a:ext cx="274320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ff"/>
                </a:solidFill>
                <a:latin typeface="Arial Black"/>
              </a:rPr>
              <a:t>Motives for Exploration</a:t>
            </a: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LD: Desire for new sources of weal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eking trade with 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alians &amp; Muslims already controlled the M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: Spread Christian teach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ty was convert non-Christi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LORY: To fulfill Renaissance ideas of adventure, discovery &amp; personal achiev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5" descr="gold_bars"/>
          <p:cNvPicPr/>
          <p:nvPr/>
        </p:nvPicPr>
        <p:blipFill>
          <a:blip r:embed="rId1"/>
          <a:stretch/>
        </p:blipFill>
        <p:spPr>
          <a:xfrm>
            <a:off x="0" y="5614920"/>
            <a:ext cx="1523880" cy="1243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Cross"/>
          <p:cNvPicPr/>
          <p:nvPr/>
        </p:nvPicPr>
        <p:blipFill>
          <a:blip r:embed="rId2"/>
          <a:stretch/>
        </p:blipFill>
        <p:spPr>
          <a:xfrm>
            <a:off x="3352680" y="5375160"/>
            <a:ext cx="1981440" cy="14828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1" descr="Liverpool__Champion_192958c"/>
          <p:cNvPicPr/>
          <p:nvPr/>
        </p:nvPicPr>
        <p:blipFill>
          <a:blip r:embed="rId3"/>
          <a:stretch/>
        </p:blipFill>
        <p:spPr>
          <a:xfrm>
            <a:off x="6553080" y="5108400"/>
            <a:ext cx="2590920" cy="17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pic>
        <p:nvPicPr>
          <p:cNvPr id="141" name="Content Placeholder 6" descr=""/>
          <p:cNvPicPr/>
          <p:nvPr/>
        </p:nvPicPr>
        <p:blipFill>
          <a:blip r:embed="rId1"/>
          <a:srcRect l="1307" t="31590" r="14446" b="7637"/>
          <a:stretch/>
        </p:blipFill>
        <p:spPr>
          <a:xfrm>
            <a:off x="0" y="33480"/>
            <a:ext cx="9093240" cy="4919400"/>
          </a:xfrm>
          <a:prstGeom prst="rect">
            <a:avLst/>
          </a:prstGeom>
          <a:ln w="0">
            <a:noFill/>
          </a:ln>
        </p:spPr>
      </p:pic>
      <p:sp>
        <p:nvSpPr>
          <p:cNvPr id="142" name="TextBox 7"/>
          <p:cNvSpPr/>
          <p:nvPr/>
        </p:nvSpPr>
        <p:spPr>
          <a:xfrm>
            <a:off x="76320" y="4903920"/>
            <a:ext cx="9067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d2e"/>
                </a:solidFill>
                <a:latin typeface="Arial"/>
              </a:rPr>
              <a:t>1) How are the Maps Similar?</a:t>
            </a:r>
            <a:br>
              <a:rPr sz="2800"/>
            </a:br>
            <a:r>
              <a:rPr b="1" lang="en-US" sz="2800" spc="-1" strike="noStrike">
                <a:solidFill>
                  <a:srgbClr val="001d2e"/>
                </a:solidFill>
                <a:latin typeface="Arial"/>
              </a:rPr>
              <a:t>2) How are the Maps different?</a:t>
            </a:r>
            <a:br>
              <a:rPr sz="2800"/>
            </a:br>
            <a:r>
              <a:rPr b="1" lang="en-US" sz="2800" spc="-1" strike="noStrike">
                <a:solidFill>
                  <a:srgbClr val="001d2e"/>
                </a:solidFill>
                <a:latin typeface="Arial"/>
              </a:rPr>
              <a:t>3) As time goes on what changes?</a:t>
            </a:r>
            <a:br>
              <a:rPr sz="2800"/>
            </a:br>
            <a:r>
              <a:rPr b="1" lang="en-US" sz="2800" spc="-1" strike="noStrike">
                <a:solidFill>
                  <a:srgbClr val="001d2e"/>
                </a:solidFill>
                <a:latin typeface="Arial"/>
              </a:rPr>
              <a:t>4) Why was mapmaking so important to Explorers?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920" y="7632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ff"/>
                </a:solidFill>
                <a:latin typeface="Arial Black"/>
              </a:rPr>
              <a:t>Is it possible that Zheng He made it to America?</a:t>
            </a:r>
            <a:endParaRPr b="0" lang="en-US" sz="36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286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a paragraph giving your thoughts on the question above (using both videos and the read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ider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ealth, skill, materials of Ch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ps and possible evid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ck of definitive evid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War in the Ancient World (22:10 – en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9min starts Zheng He p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hole Clip: four minutes from History 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67816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4" descr="AgeExpMap"/>
          <p:cNvPicPr/>
          <p:nvPr/>
        </p:nvPicPr>
        <p:blipFill>
          <a:blip r:embed="rId1"/>
          <a:stretch/>
        </p:blipFill>
        <p:spPr>
          <a:xfrm>
            <a:off x="228600" y="380880"/>
            <a:ext cx="86868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2T14:39:54Z</dcterms:created>
  <dc:creator>School District</dc:creator>
  <dc:description/>
  <dc:language>en-US</dc:language>
  <cp:lastModifiedBy>Administrator</cp:lastModifiedBy>
  <dcterms:modified xsi:type="dcterms:W3CDTF">2016-12-07T14:27:55Z</dcterms:modified>
  <cp:revision>27</cp:revision>
  <dc:subject/>
  <dc:title>Explo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421033</vt:lpwstr>
  </property>
</Properties>
</file>